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29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9017-5D07-4119-A008-6F566F42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42A8-CD78-499F-809E-3F0942CE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D3DB-499A-4C54-8ABC-1E055BBC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9D24-E043-4A0D-9F96-12EA332F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3DB6-D0E5-4CE8-9705-62CB9D2F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7B49-2391-478D-B4AF-26371236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4FE0-F998-444A-BDA5-D66E72D2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2FE4-ADB4-4A24-A379-5DABEFE8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2090-2C5A-47B5-8112-CB3BEDD1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6609-4FA7-4BD1-A8AA-BA45A275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8C12-9749-462E-9CF6-2414EBF9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D21F-1D2D-458D-AAAE-99849D41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E336-3C98-4E71-90DE-D5BE7EDD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CFF5-F43D-483D-8262-F368C475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2496-908F-4182-BA95-B4B6758A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3688-B0A5-41E9-9B78-EC29C37E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3AD1-3410-423D-9063-5E203748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A833-2D6F-479A-A03F-CEEE298F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986-B441-4CA1-AACC-F3C4BA1A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7836-2274-462A-B30A-A466AFE8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86C0-F2BE-4124-A21A-79A9EE50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F8B4-66B8-4D4F-8D78-FE0CCD99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320F-612F-4B83-AE9C-D7AD2572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C82F-91BD-484F-9F15-BF3C21EE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BFD0-37C2-4816-9EED-E9852EC14F4C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8F29-F54D-48E6-A091-87640CCBFA94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eb.hgtv.com/hgtv/designers_portfolio/portfolio/0,2159,HGTV_16257_1669,00.html?searchType=Portfolio&amp;Room=DP+LIVING+AREAS&amp;Style=&amp;Designer=&amp;SearchPositionIndex=8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web.hgtv.com/hgtv/designers_portfolio/portfolio/0,2159,HGTV_16257_1682,00.html?searchType=Portfolio&amp;Room=DP+LIVING+AREAS&amp;Style=&amp;Designer=&amp;SearchPositionIndex=5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colormatters.com/colortheory" TargetMode="External"/><Relationship Id="rId2" Type="http://schemas.openxmlformats.org/officeDocument/2006/relationships/hyperlink" Target="http://www.color-wheel-pro.com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%3A%2F%2Fimages.search.yahoo.com%2Fsearch%2Fimages%3F_adv_prop%3Dimage%26fr%3Dyfp-t-471%26va%3Dcolor%2Bwheel%26sz%3D&amp;w=432&amp;h=432&amp;imgurl=www.wcc.hawaii.edu%2Fart%2Fimages%2Fcolorwheel.jpg&amp;rurl=http%3A%2F%2Fwww.wcc.hawaii.edu%2Fart%2Fcolor.html&amp;size=23.2kB&amp;name=colorwheel.jpg&amp;p=color+wheel&amp;type=jpeg&amp;no=6&amp;tt=48,162&amp;oid=6aa310ed14d4acf6&amp;ei=ISO-8859-1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lor Wheel and Color Schem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.02 and 3.0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467480" y="449568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arm and Cool Colo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Warm colors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: yellow, red, orange and all of the colors near them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se color are called “advancing” because they make appear closer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se colors attract your attention and make you feel happy, energetic and excited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Red actually stimulates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the nervous system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Overuse of these colors can make you feel nervous or tense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Cool Colors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: blue, green, violet and all colors near them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mind you of water, grass, and tre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alled “receding” colors because they make objects seem smaller and further awa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ol colors are quiet and restful. Used in hospitals and bedroom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lor Schemes or Harmoni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leasing combinations of colors based on their respective positions on the color wheel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re are 6 basic color schemes/harmoni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onochromatic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mplest color scheme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ses a single hue and variation is created by changing the values and intensiti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" descr="Color Wheel: Monochromatic Color Scheme"/>
          <p:cNvPicPr/>
          <p:nvPr/>
        </p:nvPicPr>
        <p:blipFill>
          <a:blip r:embed="rId1"/>
          <a:stretch/>
        </p:blipFill>
        <p:spPr>
          <a:xfrm>
            <a:off x="1752480" y="45720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onochromatic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" descr="South Facing Room with Pale Blue Color"/>
          <p:cNvPicPr/>
          <p:nvPr/>
        </p:nvPicPr>
        <p:blipFill>
          <a:blip r:embed="rId1"/>
          <a:stretch/>
        </p:blipFill>
        <p:spPr>
          <a:xfrm>
            <a:off x="1219320" y="2611440"/>
            <a:ext cx="2819160" cy="2494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343400" y="3124080"/>
            <a:ext cx="411480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6" name="" descr="Tropical Punch"/>
          <p:cNvPicPr/>
          <p:nvPr/>
        </p:nvPicPr>
        <p:blipFill>
          <a:blip r:embed="rId1"/>
          <a:stretch/>
        </p:blipFill>
        <p:spPr>
          <a:xfrm>
            <a:off x="3124080" y="2666880"/>
            <a:ext cx="426744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nalogou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-5 color that are next to each other on the color whee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hoose one color as the dominant and use smaller amounts of the others to add interest and variet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714760" y="2549520"/>
            <a:ext cx="3714480" cy="1738440"/>
            <a:chOff x="2714760" y="2549520"/>
            <a:chExt cx="3714480" cy="1738440"/>
          </a:xfrm>
        </p:grpSpPr>
        <p:sp>
          <p:nvSpPr>
            <p:cNvPr id="130" name=""/>
            <p:cNvSpPr/>
            <p:nvPr/>
          </p:nvSpPr>
          <p:spPr>
            <a:xfrm>
              <a:off x="2714760" y="2549520"/>
              <a:ext cx="3714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14760" y="2549520"/>
              <a:ext cx="371448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0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32" name="" descr="Color Wheel: Analogous Color Scheme"/>
          <p:cNvPicPr/>
          <p:nvPr/>
        </p:nvPicPr>
        <p:blipFill>
          <a:blip r:embed="rId1"/>
          <a:stretch/>
        </p:blipFill>
        <p:spPr>
          <a:xfrm>
            <a:off x="5867280" y="44197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4038840" cy="2962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Color Scheme Image"/>
          <p:cNvPicPr/>
          <p:nvPr/>
        </p:nvPicPr>
        <p:blipFill>
          <a:blip r:embed="rId2"/>
          <a:stretch/>
        </p:blipFill>
        <p:spPr>
          <a:xfrm>
            <a:off x="5638680" y="2743200"/>
            <a:ext cx="2819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mplementa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wo colors that are positioned across from each other across on color wheel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y make each other look brighter and more intense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714760" y="2549520"/>
            <a:ext cx="3714480" cy="1738440"/>
            <a:chOff x="2714760" y="2549520"/>
            <a:chExt cx="3714480" cy="1738440"/>
          </a:xfrm>
        </p:grpSpPr>
        <p:sp>
          <p:nvSpPr>
            <p:cNvPr id="140" name=""/>
            <p:cNvSpPr/>
            <p:nvPr/>
          </p:nvSpPr>
          <p:spPr>
            <a:xfrm>
              <a:off x="2714760" y="2549520"/>
              <a:ext cx="3714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4760" y="2549520"/>
              <a:ext cx="371448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0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42" name="" descr="Color Wheel: Complementary Color Scheme"/>
          <p:cNvPicPr/>
          <p:nvPr/>
        </p:nvPicPr>
        <p:blipFill>
          <a:blip r:embed="rId1"/>
          <a:stretch/>
        </p:blipFill>
        <p:spPr>
          <a:xfrm>
            <a:off x="6095880" y="42670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Complementary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" descr="Hippety Hop"/>
          <p:cNvPicPr/>
          <p:nvPr/>
        </p:nvPicPr>
        <p:blipFill>
          <a:blip r:embed="rId1"/>
          <a:stretch/>
        </p:blipFill>
        <p:spPr>
          <a:xfrm>
            <a:off x="990720" y="1600200"/>
            <a:ext cx="78292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lo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lor is an element or property of light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an help create different moods in the residential and non-residential sett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very color can have a psychological effect on people and no one single color can satisfy every member of the family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mplementa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8" name="" descr="Color Scheme Image"/>
          <p:cNvPicPr/>
          <p:nvPr/>
        </p:nvPicPr>
        <p:blipFill>
          <a:blip r:embed="rId1"/>
          <a:stretch/>
        </p:blipFill>
        <p:spPr>
          <a:xfrm>
            <a:off x="5105520" y="2612880"/>
            <a:ext cx="3733560" cy="2738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Color Scheme Image"/>
          <p:cNvPicPr/>
          <p:nvPr/>
        </p:nvPicPr>
        <p:blipFill>
          <a:blip r:embed="rId2"/>
          <a:stretch/>
        </p:blipFill>
        <p:spPr>
          <a:xfrm>
            <a:off x="1143000" y="2666880"/>
            <a:ext cx="3276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2" name="" descr="Provencal Delight"/>
          <p:cNvPicPr/>
          <p:nvPr/>
        </p:nvPicPr>
        <p:blipFill>
          <a:blip r:embed="rId1"/>
          <a:stretch/>
        </p:blipFill>
        <p:spPr>
          <a:xfrm>
            <a:off x="2286000" y="2619360"/>
            <a:ext cx="457200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plit-Complementa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ne color is used with the two colors adjacent to it complement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ne color should be dominant and the other two used to add variety and interes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714760" y="2549520"/>
            <a:ext cx="3714480" cy="1738440"/>
            <a:chOff x="2714760" y="2549520"/>
            <a:chExt cx="3714480" cy="1738440"/>
          </a:xfrm>
        </p:grpSpPr>
        <p:sp>
          <p:nvSpPr>
            <p:cNvPr id="156" name=""/>
            <p:cNvSpPr/>
            <p:nvPr/>
          </p:nvSpPr>
          <p:spPr>
            <a:xfrm>
              <a:off x="2714760" y="2549520"/>
              <a:ext cx="3714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14760" y="2549520"/>
              <a:ext cx="371448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0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58" name="" descr="Color Wheel: Split Complementary Color Scheme"/>
          <p:cNvPicPr/>
          <p:nvPr/>
        </p:nvPicPr>
        <p:blipFill>
          <a:blip r:embed="rId1"/>
          <a:stretch/>
        </p:blipFill>
        <p:spPr>
          <a:xfrm>
            <a:off x="5715000" y="48006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RIADIC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Uses three colors that are equally spaced on  the color whe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 primary and secondary colors form separate triadic schem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hange values and intensities to lessen the sharp contrast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1" name="" descr="Color Wheel: Triadic Color Scheme"/>
          <p:cNvPicPr/>
          <p:nvPr/>
        </p:nvPicPr>
        <p:blipFill>
          <a:blip r:embed="rId1"/>
          <a:stretch/>
        </p:blipFill>
        <p:spPr>
          <a:xfrm>
            <a:off x="6553080" y="48769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RIA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3" name="" descr="Bathroom with primary colors"/>
          <p:cNvPicPr/>
          <p:nvPr/>
        </p:nvPicPr>
        <p:blipFill>
          <a:blip r:embed="rId1"/>
          <a:stretch/>
        </p:blipFill>
        <p:spPr>
          <a:xfrm>
            <a:off x="1371600" y="2819520"/>
            <a:ext cx="2438280" cy="2971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A Pop of Color"/>
          <p:cNvPicPr/>
          <p:nvPr/>
        </p:nvPicPr>
        <p:blipFill>
          <a:blip r:embed="rId2"/>
          <a:stretch/>
        </p:blipFill>
        <p:spPr>
          <a:xfrm>
            <a:off x="4191120" y="2743200"/>
            <a:ext cx="45529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6" name="" descr="Mosaic of Color"/>
          <p:cNvPicPr/>
          <p:nvPr/>
        </p:nvPicPr>
        <p:blipFill>
          <a:blip r:embed="rId1"/>
          <a:stretch/>
        </p:blipFill>
        <p:spPr>
          <a:xfrm>
            <a:off x="990720" y="1676520"/>
            <a:ext cx="78292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Neutr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mbinations of black, white, gray form this scheme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an also add brown, tan, beig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mall amounts of color may be added for interest. This is called “accented” neutr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48769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86400" y="49528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1800360" cy="1752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Modern"/>
          <p:cNvPicPr/>
          <p:nvPr/>
        </p:nvPicPr>
        <p:blipFill>
          <a:blip r:embed="rId2"/>
          <a:stretch/>
        </p:blipFill>
        <p:spPr>
          <a:xfrm>
            <a:off x="4343400" y="2438280"/>
            <a:ext cx="37339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Housing Decisions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, pages 253-27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ousing and Interiors, pages 406-421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www.colormatters.com/colortheo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www.color-wheel-pro.co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opyright ©2007, ABCD, All rights reserv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lor Whee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st commonly used tool to understand the basis of all color relationships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 concentric rings make up the color wheel: outer, middle, inner. The middle ring consists of the primary, secondary, and intermediate/tertiary colo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12880" indent="-228600">
              <a:spcBef>
                <a:spcPts val="499"/>
              </a:spcBef>
              <a:buClr>
                <a:srgbClr val="6a6a6a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103480" y="771480"/>
            <a:ext cx="493704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imary Colo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ellow, red, blue are the basic colors and cannot be created by mixing other colors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657600" y="3505320"/>
            <a:ext cx="16002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econdary colo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range, green, violet. These are created by mixing equal amounts of two primary colors and are located on the color wheel halfway between the two primary colors used to make it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05520" y="45720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termediate/Tertiary Colo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ade from using equal amounts of a primary and secondary color. (Primary color is always named first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ellow-green and Yellow-orang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d-violet and Red-orang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lue-green and Blue-viole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termediate Colo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571920" y="2362320"/>
            <a:ext cx="2905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lor Terminolog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The name of a colo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n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 The brightness or dullness of a colo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 The lightness or darkness of a colo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h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 adding black to a colo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 adding white to a colo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16:13:03Z</dcterms:created>
  <dc:creator> sherry brooks</dc:creator>
  <dc:description/>
  <dc:language>en-US</dc:language>
  <cp:lastModifiedBy>s.brooks</cp:lastModifiedBy>
  <dcterms:modified xsi:type="dcterms:W3CDTF">2008-01-30T12:15:23Z</dcterms:modified>
  <cp:revision>24</cp:revision>
  <dc:subject/>
  <dc:title>Color Wheel and Color Schemes</dc:title>
</cp:coreProperties>
</file>